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DFB44-D734-481F-89B0-24F1E8099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E251A-5844-4A23-BD11-7EA99051F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96F30-EE1C-4D42-97E7-A4BF64881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BDF6D-8657-40B7-8CB1-82BB79FEB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EE2AD-6EE5-4822-B223-1873B754A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A3CB3-5308-4740-BC7B-530A5918A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6B897-EB27-4A9B-8DF0-576FB0736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EE982-FE46-4D25-A593-F5D5C799E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A1C9C-35AF-43F3-9388-B10CB9349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CD62F-2F66-40CB-AD36-8BED30EF5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38D16-8C40-4236-B186-3C5D6C1FC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BBE5B-F352-4C02-8D89-A5C384410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7679E-902D-4846-9B7F-0AB78000D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B95A4-26E4-495B-AC9F-4F226369A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7DDA8-6D67-461D-AA1C-0143AF0DC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1D246-F2F3-4C59-B33A-0C287A1AC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2F572-F727-4CC5-9888-BDE174EAC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BA04-643E-4484-9BF7-66F9B40D9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CE446-AEC1-4089-B839-46FFE842F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5E5AE-3C94-43B4-B529-7052E2653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8F509-D1AA-4110-BB54-75E37307B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69410-DC16-46B1-B833-CB95EED0B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905C8-2FD3-4077-9D67-8C30BD972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4CCB-2B60-4875-9431-893609D93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66DB-7F75-4C29-A36E-CE9ABE1C23BD}"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45E2-3A22-48C6-A5B1-114CD1B61E0A}"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DOA</a:t>
            </a:r>
            <a:endParaRPr b="0" lang="en-US" sz="4000" spc="-1" strike="noStrike">
              <a:solidFill>
                <a:srgbClr val="f7d47d"/>
              </a:solidFill>
              <a:latin typeface="Arial"/>
            </a:endParaRPr>
          </a:p>
        </p:txBody>
      </p:sp>
      <p:sp>
        <p:nvSpPr>
          <p:cNvPr id="19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Explanation : clarify:: _____ : ______</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Foreward:recap, picture:replace, example:illustrate, omission:emphasize</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is the relationship?</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irth : happiness :: importinence : _____</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Respect, merriment, insolence, degradation</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is the relationship?</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nswers</a:t>
            </a:r>
            <a:endParaRPr b="0" lang="en-US" sz="4000" spc="-1" strike="noStrike">
              <a:solidFill>
                <a:srgbClr val="f7d47d"/>
              </a:solidFill>
              <a:latin typeface="Arial"/>
            </a:endParaRPr>
          </a:p>
        </p:txBody>
      </p:sp>
      <p:sp>
        <p:nvSpPr>
          <p:cNvPr id="1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xample: illustrat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y are the same</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solenc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y are the sa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reewrite:</a:t>
            </a: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rite about anything</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5 minut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Homophones-write a homophone for each of the following.</a:t>
            </a: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t</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lan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rofit</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rat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ay</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eard</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our</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ol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dl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Brak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Vocabulary Practice-write an antonym for the following words.</a:t>
            </a:r>
            <a:endParaRPr b="0" lang="en-US" sz="36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alamity</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rony</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timidate</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coil</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onvene</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o Build a Fire: pg. 486</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 foil is a character who sets off, or emphasizes, by way of contrast the traits of another character. </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we read, think of who the foil for the man i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Questions to answer</a:t>
            </a: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point of view in this story, like in </a:t>
            </a:r>
            <a:r>
              <a:rPr b="0" i="1" lang="en-US" sz="2400" spc="-1" strike="noStrike">
                <a:solidFill>
                  <a:srgbClr val="2f1311"/>
                </a:solidFill>
                <a:latin typeface="Arial"/>
              </a:rPr>
              <a:t>The Open Boat, </a:t>
            </a:r>
            <a:r>
              <a:rPr b="0" lang="en-US" sz="2400" spc="-1" strike="noStrike">
                <a:solidFill>
                  <a:srgbClr val="2f1311"/>
                </a:solidFill>
                <a:latin typeface="Arial"/>
              </a:rPr>
              <a:t>is third person omniscient. Why do you think so many authors of realism chose this point of view?</a:t>
            </a:r>
            <a:endParaRPr b="0" lang="en-US" sz="2400" spc="-1" strike="noStrike">
              <a:solidFill>
                <a:srgbClr val="2f1311"/>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author refers to ‘the Klondike’ and ‘claims.’ The story also takes place in the Yukon. What significant historical event was taking place at this time that probably took our main character to this area?</a:t>
            </a: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68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Questions continued:</a:t>
            </a:r>
            <a:endParaRPr b="0" lang="en-US" sz="3600" spc="-1" strike="noStrike">
              <a:solidFill>
                <a:srgbClr val="f7d47d"/>
              </a:solidFill>
              <a:latin typeface="Arial"/>
            </a:endParaRPr>
          </a:p>
        </p:txBody>
      </p:sp>
      <p:sp>
        <p:nvSpPr>
          <p:cNvPr id="206" name="PlaceHolder 2"/>
          <p:cNvSpPr>
            <a:spLocks noGrp="1"/>
          </p:cNvSpPr>
          <p:nvPr>
            <p:ph/>
          </p:nvPr>
        </p:nvSpPr>
        <p:spPr>
          <a:xfrm>
            <a:off x="228600" y="990720"/>
            <a:ext cx="7386480" cy="4497120"/>
          </a:xfrm>
          <a:prstGeom prst="rect">
            <a:avLst/>
          </a:prstGeom>
          <a:noFill/>
          <a:ln w="0">
            <a:noFill/>
          </a:ln>
        </p:spPr>
        <p:txBody>
          <a:bodyPr lIns="90000" rIns="90000" tIns="46800" bIns="46800" anchor="t">
            <a:normAutofit fontScale="89000"/>
          </a:bodyPr>
          <a:p>
            <a:pPr marL="305280" indent="-3052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is dog is also never named, but he is representative of his entire species. What statement is the author trying to make by having the dog with the man on this journey?</a:t>
            </a:r>
            <a:endParaRPr b="0" lang="en-US" sz="2400" spc="-1" strike="noStrike">
              <a:solidFill>
                <a:srgbClr val="2f1311"/>
              </a:solidFill>
              <a:latin typeface="Arial"/>
            </a:endParaRPr>
          </a:p>
          <a:p>
            <a:pPr marL="305280" indent="-3052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details in this paragraph foreshadow disaster?</a:t>
            </a:r>
            <a:endParaRPr b="0" lang="en-US" sz="2400" spc="-1" strike="noStrike">
              <a:solidFill>
                <a:srgbClr val="2f1311"/>
              </a:solidFill>
              <a:latin typeface="Arial"/>
            </a:endParaRPr>
          </a:p>
          <a:p>
            <a:pPr marL="305280" indent="-3052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seems to be the man’s attitude toward the dog?</a:t>
            </a:r>
            <a:endParaRPr b="0" lang="en-US" sz="2400" spc="-1" strike="noStrike">
              <a:solidFill>
                <a:srgbClr val="2f1311"/>
              </a:solidFill>
              <a:latin typeface="Arial"/>
            </a:endParaRPr>
          </a:p>
          <a:p>
            <a:pPr marL="305280" indent="-3052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does this statement show about the man? “What were frosted cheeks? A bit painful, that was all; they were never serious.”</a:t>
            </a:r>
            <a:endParaRPr b="0" lang="en-US" sz="2400" spc="-1" strike="noStrike">
              <a:solidFill>
                <a:srgbClr val="2f1311"/>
              </a:solidFill>
              <a:latin typeface="Arial"/>
            </a:endParaRPr>
          </a:p>
          <a:p>
            <a:pPr marL="305280" indent="-3052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y does the dog bite his paws? What is the dog driven by?</a:t>
            </a:r>
            <a:endParaRPr b="0" lang="en-US" sz="2400" spc="-1" strike="noStrike">
              <a:solidFill>
                <a:srgbClr val="2f1311"/>
              </a:solidFill>
              <a:latin typeface="Arial"/>
            </a:endParaRPr>
          </a:p>
          <a:p>
            <a:pPr marL="305280" indent="-3052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is meant by this: “one was the toil slave of the other.” </a:t>
            </a:r>
            <a:endParaRPr b="0" lang="en-US" sz="2400" spc="-1" strike="noStrike">
              <a:solidFill>
                <a:srgbClr val="2f1311"/>
              </a:solidFill>
              <a:latin typeface="Arial"/>
            </a:endParaRPr>
          </a:p>
          <a:p>
            <a:pPr marL="305280" indent="-3052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is ironic about the dog being the ‘toil slave?’</a:t>
            </a:r>
            <a:endParaRPr b="0" lang="en-US" sz="2400" spc="-1" strike="noStrike">
              <a:solidFill>
                <a:srgbClr val="2f1311"/>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04:13:16Z</dcterms:created>
  <dc:creator>Angie</dc:creator>
  <dc:description/>
  <dc:language>en-US</dc:language>
  <cp:lastModifiedBy>rebecca</cp:lastModifiedBy>
  <dcterms:modified xsi:type="dcterms:W3CDTF">2009-01-27T15:38:36Z</dcterms:modified>
  <cp:revision>3</cp:revision>
  <dc:subject/>
  <dc:title>DOA</dc:title>
</cp:coreProperties>
</file>